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6F229D-30CA-4810-85F6-11DB6D59527D}"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13CAA-39D3-46EB-8360-5C4F846A5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D8AFA-08FC-4C43-BE52-D2ADED42C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E2C31-D93F-4398-B879-F5FFE413F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F3DB8-6A0A-4361-AC7C-99085836A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BA0FF-1039-474A-A189-2C425483F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BA279-F3C6-46C3-AAD0-C5B98F2C1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C63A5-F49E-466D-AD9C-87095E206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B6816-BB85-41F2-A3BF-4933657D9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8C0DA-D69C-4600-8868-107CEF3E1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08DDE-3B45-4537-B4BE-127D669D4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AFB35-4508-4031-BFBB-0C89B432D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19EE4-E6E3-47EC-9F88-3A080AD67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1B9BA-DF9E-42A1-8B70-D8188D810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677A5-1348-4C84-9542-A6FC079B9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A4E32-77D3-42D9-94CA-FEE38C1C7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5CB61-D099-4575-9689-AAC637FCD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31A66-06C5-449C-A3CE-4F0B63B5A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625E5-A8F8-47FA-85F9-483F917C8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F4EF-F765-47F0-A155-2062FB5BB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B4B46-6DF1-4FD7-8CA0-E709752AA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0B868-2DE7-4F65-9203-7BE7337A5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4AF51-9642-4B21-A2E0-166FE3A6F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0174-2398-4DFC-8A42-48A1D13EE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80658-5E97-40FA-A3CC-5CDF5D2E4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4F97-E95D-45E5-B7C0-8BDF32414C1B}"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06FF-05EF-41AB-A170-A9AE56D644DA}"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2EC4-A207-425C-A387-A4DB0C785F50}"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E7C4-27CF-480A-A083-616666356D95}"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853401E-89AA-4B57-B3D9-42135ECB31B7}" type="slidenum">
              <a:t>10</a:t>
            </a:fld>
          </a:p>
        </p:txBody>
      </p:sp>
      <p:sp>
        <p:nvSpPr>
          <p:cNvPr id="6" name="PlaceHolder 5"/>
          <p:cNvSpPr>
            <a:spLocks noGrp="1"/>
          </p:cNvSpPr>
          <p:nvPr>
            <p:ph type="dt" idx="1"/>
          </p:nvPr>
        </p:nvSpPr>
        <p:spPr/>
        <p:txBody>
          <a:bodyPr/>
          <a:p>
            <a:fld id="{8D4FA113-7958-471F-9FDE-80DE0189CDD9}" type="datetime1">
              <a:rPr lang="en-US"/>
              <a:t>07/28/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51D9DB4-68C6-4470-97F7-44BF854CD12F}" type="slidenum">
              <a:t>11</a:t>
            </a:fld>
          </a:p>
        </p:txBody>
      </p:sp>
      <p:sp>
        <p:nvSpPr>
          <p:cNvPr id="6" name="PlaceHolder 5"/>
          <p:cNvSpPr>
            <a:spLocks noGrp="1"/>
          </p:cNvSpPr>
          <p:nvPr>
            <p:ph type="dt" idx="1"/>
          </p:nvPr>
        </p:nvSpPr>
        <p:spPr/>
        <p:txBody>
          <a:bodyPr/>
          <a:p>
            <a:fld id="{D6097792-99E9-40FD-9479-492D337FD17C}" type="datetime1">
              <a:rPr lang="en-US"/>
              <a:t>07/28/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9D13461-ED6D-411E-8856-4EE5E01B833E}" type="slidenum">
              <a:t>12</a:t>
            </a:fld>
          </a:p>
        </p:txBody>
      </p:sp>
      <p:sp>
        <p:nvSpPr>
          <p:cNvPr id="5" name="PlaceHolder 4"/>
          <p:cNvSpPr>
            <a:spLocks noGrp="1"/>
          </p:cNvSpPr>
          <p:nvPr>
            <p:ph type="dt" idx="1"/>
          </p:nvPr>
        </p:nvSpPr>
        <p:spPr/>
        <p:txBody>
          <a:bodyPr/>
          <a:p>
            <a:fld id="{CB5A0D29-52C3-450A-A53A-D94A2766056C}" type="datetime1">
              <a:rPr lang="en-US"/>
              <a:t>07/28/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4B13D79-28BE-41C5-A446-A5557F2ED1E2}" type="slidenum">
              <a:t>13</a:t>
            </a:fld>
          </a:p>
        </p:txBody>
      </p:sp>
      <p:sp>
        <p:nvSpPr>
          <p:cNvPr id="5" name="PlaceHolder 4"/>
          <p:cNvSpPr>
            <a:spLocks noGrp="1"/>
          </p:cNvSpPr>
          <p:nvPr>
            <p:ph type="dt" idx="1"/>
          </p:nvPr>
        </p:nvSpPr>
        <p:spPr/>
        <p:txBody>
          <a:bodyPr/>
          <a:p>
            <a:fld id="{9BEDAA3F-4451-4BC3-B9F6-E2BD3C1950A8}" type="datetime1">
              <a:rPr lang="en-US"/>
              <a:t>07/28/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82F0A08-0A24-4671-B006-2F4C91F03BFD}" type="slidenum">
              <a:t>14</a:t>
            </a:fld>
          </a:p>
        </p:txBody>
      </p:sp>
      <p:sp>
        <p:nvSpPr>
          <p:cNvPr id="5" name="PlaceHolder 4"/>
          <p:cNvSpPr>
            <a:spLocks noGrp="1"/>
          </p:cNvSpPr>
          <p:nvPr>
            <p:ph type="dt" idx="1"/>
          </p:nvPr>
        </p:nvSpPr>
        <p:spPr/>
        <p:txBody>
          <a:bodyPr/>
          <a:p>
            <a:fld id="{5FF9BC8C-4B1E-4901-9055-9B396A39D9B8}"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6F73FF6-4565-4042-8CA5-86A26A4A33BF}" type="slidenum">
              <a:t>15</a:t>
            </a:fld>
          </a:p>
        </p:txBody>
      </p:sp>
      <p:sp>
        <p:nvSpPr>
          <p:cNvPr id="6" name="PlaceHolder 5"/>
          <p:cNvSpPr>
            <a:spLocks noGrp="1"/>
          </p:cNvSpPr>
          <p:nvPr>
            <p:ph type="dt" idx="1"/>
          </p:nvPr>
        </p:nvSpPr>
        <p:spPr/>
        <p:txBody>
          <a:bodyPr/>
          <a:p>
            <a:fld id="{79A6D5B0-462B-4A8A-8C7F-BF5D20374506}"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B648BD6-7E25-4486-A70B-F52F52D67801}" type="slidenum">
              <a:t>16</a:t>
            </a:fld>
          </a:p>
        </p:txBody>
      </p:sp>
      <p:sp>
        <p:nvSpPr>
          <p:cNvPr id="5" name="PlaceHolder 4"/>
          <p:cNvSpPr>
            <a:spLocks noGrp="1"/>
          </p:cNvSpPr>
          <p:nvPr>
            <p:ph type="dt" idx="1"/>
          </p:nvPr>
        </p:nvSpPr>
        <p:spPr/>
        <p:txBody>
          <a:bodyPr/>
          <a:p>
            <a:fld id="{DF803446-6252-4255-A352-0BAA38653370}" type="datetime1">
              <a:rPr lang="en-US"/>
              <a:t>07/28/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6083AD3-D4AA-4FAB-AD28-2777F90BC745}" type="slidenum">
              <a:t>17</a:t>
            </a:fld>
          </a:p>
        </p:txBody>
      </p:sp>
      <p:sp>
        <p:nvSpPr>
          <p:cNvPr id="5" name="PlaceHolder 4"/>
          <p:cNvSpPr>
            <a:spLocks noGrp="1"/>
          </p:cNvSpPr>
          <p:nvPr>
            <p:ph type="dt" idx="1"/>
          </p:nvPr>
        </p:nvSpPr>
        <p:spPr/>
        <p:txBody>
          <a:bodyPr/>
          <a:p>
            <a:fld id="{D2ED282A-6A5D-44A6-B674-38A4454FCC48}" type="datetime1">
              <a:rPr lang="en-US"/>
              <a:t>07/28/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AB2047D-34BB-4BAF-815E-60BA129F5F59}" type="slidenum">
              <a:t>18</a:t>
            </a:fld>
          </a:p>
        </p:txBody>
      </p:sp>
      <p:sp>
        <p:nvSpPr>
          <p:cNvPr id="5" name="PlaceHolder 4"/>
          <p:cNvSpPr>
            <a:spLocks noGrp="1"/>
          </p:cNvSpPr>
          <p:nvPr>
            <p:ph type="dt" idx="1"/>
          </p:nvPr>
        </p:nvSpPr>
        <p:spPr/>
        <p:txBody>
          <a:bodyPr/>
          <a:p>
            <a:fld id="{093D5C55-0E8A-4555-B91D-6710BFD86A55}"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C3B379C-1336-412A-8272-381F366AD90A}" type="slidenum">
              <a:t>19</a:t>
            </a:fld>
          </a:p>
        </p:txBody>
      </p:sp>
      <p:sp>
        <p:nvSpPr>
          <p:cNvPr id="6" name="PlaceHolder 5"/>
          <p:cNvSpPr>
            <a:spLocks noGrp="1"/>
          </p:cNvSpPr>
          <p:nvPr>
            <p:ph type="dt" idx="1"/>
          </p:nvPr>
        </p:nvSpPr>
        <p:spPr/>
        <p:txBody>
          <a:bodyPr/>
          <a:p>
            <a:fld id="{6CB43178-489C-46CA-BEA2-2C9DC268F2B7}"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9302D5F-D459-477B-8925-5BA14ED8F416}" type="slidenum">
              <a:t>2</a:t>
            </a:fld>
          </a:p>
        </p:txBody>
      </p:sp>
      <p:sp>
        <p:nvSpPr>
          <p:cNvPr id="6" name="PlaceHolder 5"/>
          <p:cNvSpPr>
            <a:spLocks noGrp="1"/>
          </p:cNvSpPr>
          <p:nvPr>
            <p:ph type="dt" idx="1"/>
          </p:nvPr>
        </p:nvSpPr>
        <p:spPr/>
        <p:txBody>
          <a:bodyPr/>
          <a:p>
            <a:fld id="{FC7342BE-2587-4820-A787-CD88BCC232F0}" type="datetime1">
              <a:rPr lang="en-US"/>
              <a:t>07/28/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968FDBB-1F4E-48D6-A07F-FD0315F487EC}" type="slidenum">
              <a:t>3</a:t>
            </a:fld>
          </a:p>
        </p:txBody>
      </p:sp>
      <p:sp>
        <p:nvSpPr>
          <p:cNvPr id="5" name="PlaceHolder 4"/>
          <p:cNvSpPr>
            <a:spLocks noGrp="1"/>
          </p:cNvSpPr>
          <p:nvPr>
            <p:ph type="dt" idx="1"/>
          </p:nvPr>
        </p:nvSpPr>
        <p:spPr/>
        <p:txBody>
          <a:bodyPr/>
          <a:p>
            <a:fld id="{E87B7D08-FB99-44F3-9F96-50B376C5B8B3}" type="datetime1">
              <a:rPr lang="en-US"/>
              <a:t>07/28/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A86ECEF-4531-4E4F-9F5C-83079F61AA28}" type="slidenum">
              <a:t>4</a:t>
            </a:fld>
          </a:p>
        </p:txBody>
      </p:sp>
      <p:sp>
        <p:nvSpPr>
          <p:cNvPr id="6" name="PlaceHolder 5"/>
          <p:cNvSpPr>
            <a:spLocks noGrp="1"/>
          </p:cNvSpPr>
          <p:nvPr>
            <p:ph type="dt" idx="1"/>
          </p:nvPr>
        </p:nvSpPr>
        <p:spPr/>
        <p:txBody>
          <a:bodyPr/>
          <a:p>
            <a:fld id="{F3085B13-B409-4288-BD2C-42BA5C353C8E}"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B666FBC-EBEE-44CB-AC0F-FDE74FF1283C}" type="slidenum">
              <a:t>5</a:t>
            </a:fld>
          </a:p>
        </p:txBody>
      </p:sp>
      <p:sp>
        <p:nvSpPr>
          <p:cNvPr id="6" name="PlaceHolder 5"/>
          <p:cNvSpPr>
            <a:spLocks noGrp="1"/>
          </p:cNvSpPr>
          <p:nvPr>
            <p:ph type="dt" idx="1"/>
          </p:nvPr>
        </p:nvSpPr>
        <p:spPr/>
        <p:txBody>
          <a:bodyPr/>
          <a:p>
            <a:fld id="{FC9C0AF3-8146-4FFC-A369-CB954E5B9D95}" type="datetime1">
              <a:rPr lang="en-US"/>
              <a:t>07/28/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BDC06D8-3DE6-498C-B6BD-C05A38E64D33}" type="slidenum">
              <a:t>6</a:t>
            </a:fld>
          </a:p>
        </p:txBody>
      </p:sp>
      <p:sp>
        <p:nvSpPr>
          <p:cNvPr id="6" name="PlaceHolder 5"/>
          <p:cNvSpPr>
            <a:spLocks noGrp="1"/>
          </p:cNvSpPr>
          <p:nvPr>
            <p:ph type="dt" idx="1"/>
          </p:nvPr>
        </p:nvSpPr>
        <p:spPr/>
        <p:txBody>
          <a:bodyPr/>
          <a:p>
            <a:fld id="{C7D044F0-864D-4B0D-987E-E3031FBA4E69}" type="datetime1">
              <a:rPr lang="en-US"/>
              <a:t>07/28/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5667E5A-3E3F-4CCD-92F2-A69F9569B14C}" type="slidenum">
              <a:t>7</a:t>
            </a:fld>
          </a:p>
        </p:txBody>
      </p:sp>
      <p:sp>
        <p:nvSpPr>
          <p:cNvPr id="5" name="PlaceHolder 4"/>
          <p:cNvSpPr>
            <a:spLocks noGrp="1"/>
          </p:cNvSpPr>
          <p:nvPr>
            <p:ph type="dt" idx="1"/>
          </p:nvPr>
        </p:nvSpPr>
        <p:spPr/>
        <p:txBody>
          <a:bodyPr/>
          <a:p>
            <a:fld id="{DC7F607C-3A92-4D07-B82F-95DF252D8CAC}" type="datetime1">
              <a:rPr lang="en-US"/>
              <a:t>07/28/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69F340E-3F2A-43A6-AC12-F3393D285FE4}" type="slidenum">
              <a:t>8</a:t>
            </a:fld>
          </a:p>
        </p:txBody>
      </p:sp>
      <p:sp>
        <p:nvSpPr>
          <p:cNvPr id="5" name="PlaceHolder 4"/>
          <p:cNvSpPr>
            <a:spLocks noGrp="1"/>
          </p:cNvSpPr>
          <p:nvPr>
            <p:ph type="dt" idx="1"/>
          </p:nvPr>
        </p:nvSpPr>
        <p:spPr/>
        <p:txBody>
          <a:bodyPr/>
          <a:p>
            <a:fld id="{AF6FDCB4-AC64-4DFB-9F45-AD4E330ED52A}" type="datetime1">
              <a:rPr lang="en-US"/>
              <a:t>07/28/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5CBA7D3-BD1F-4423-9195-02E82DB34429}" type="slidenum">
              <a:t>9</a:t>
            </a:fld>
          </a:p>
        </p:txBody>
      </p:sp>
      <p:sp>
        <p:nvSpPr>
          <p:cNvPr id="6" name="PlaceHolder 5"/>
          <p:cNvSpPr>
            <a:spLocks noGrp="1"/>
          </p:cNvSpPr>
          <p:nvPr>
            <p:ph type="dt" idx="1"/>
          </p:nvPr>
        </p:nvSpPr>
        <p:spPr/>
        <p:txBody>
          <a:bodyPr/>
          <a:p>
            <a:fld id="{76D16406-0C3C-4B5E-A584-87C7EC7CCD07}" type="datetime1">
              <a:rPr lang="en-US"/>
              <a:t>07/28/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